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575-1408-48A9-BFE8-380174E0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D9D-AA01-4BFB-B025-509F787B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8DF-EE35-4A0B-9EF0-536A935F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C06-DB0B-4B70-88EC-59CDA9BB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0E1-118B-4DCA-9412-031AB71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BF5-A81B-4D02-B6FD-ACFC8F81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7D6-9720-4882-8D88-94DC199B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03A-5DBC-407F-91F0-A61E6FC0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18E-7970-4F07-8DFE-157BC135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FA9-A829-4FF2-BF6D-6B52CFF7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1EC-03EC-4C0B-95F2-F1CA0A1C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7CE-4C39-4A81-9A10-07ABD14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0E5E-A282-4802-A31A-838327BB3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0574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atch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ypes &amp; Rati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391520" cy="221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305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239240" cy="373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403200"/>
            <a:ext cx="81532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5257800"/>
            <a:ext cx="784872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7848360" cy="127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807732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819520"/>
            <a:ext cx="7848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00200"/>
            <a:ext cx="762012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MATCHING - 2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8483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309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7772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7238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MATCHING RAT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20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57400" y="4724280"/>
            <a:ext cx="4495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3032280"/>
            <a:ext cx="7925040" cy="100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3166920"/>
            <a:ext cx="7848720" cy="795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181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4610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286000" cy="510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4572000" cy="396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34340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3809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851200"/>
            <a:ext cx="7696080" cy="30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3:40:09Z</dcterms:modified>
  <cp:revision>109</cp:revision>
  <dc:subject/>
  <dc:title>The Art in the State of the Art</dc:title>
</cp:coreProperties>
</file>